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0682-50A3-4EA2-82AE-2C7A58525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654E-2400-462A-81C6-AD6147F5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3476-E841-4890-9B6E-41910C60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5A31-6F6A-4BB3-A6D7-D52B11A22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5708-8CEE-497C-BA75-00CA3383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2B67-887C-4675-BC80-F9D9361B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F78B-8798-45F2-A5D9-834099A3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5B0A-EB78-4285-8D77-D7FCC465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4AC4-DEE9-4D14-ABC4-0ED29F65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494B-51B0-453D-B562-A8AA68B8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A1E4-9FA4-44A7-B26B-EFF0D8C1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74C4-0FCB-4BA9-9671-E15C4F88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4945-53CC-497B-84A8-8066B12895FE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416320" y="5873760"/>
            <a:ext cx="41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7.03.1865 - 16.12.19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Narutowicz"/>
          <p:cNvPicPr/>
          <p:nvPr/>
        </p:nvPicPr>
        <p:blipFill>
          <a:blip r:embed="rId1"/>
          <a:stretch/>
        </p:blipFill>
        <p:spPr>
          <a:xfrm>
            <a:off x="2484360" y="476280"/>
            <a:ext cx="3832200" cy="516564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3321000" y="644688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 Wikipedia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6:36:41Z</dcterms:created>
  <dc:creator>IB</dc:creator>
  <dc:description/>
  <dc:language>en-US</dc:language>
  <cp:lastModifiedBy>rena</cp:lastModifiedBy>
  <dcterms:modified xsi:type="dcterms:W3CDTF">2013-03-05T18:41:53Z</dcterms:modified>
  <cp:revision>6</cp:revision>
  <dc:subject/>
  <dc:title>Slajd 1</dc:title>
</cp:coreProperties>
</file>